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678-2FF6-45FE-B03F-32B8B97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1A9-6016-47B8-8A87-CEFB74C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A64-08D9-4F48-A6F3-5BB449BD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323-1AC1-4369-ADA9-E336DD39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C3E-DA35-40A1-B2C5-BAD7161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C44-A85D-43DD-ABF0-22C5E26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B17-0E5E-42E9-BF9F-FDF31D7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221-1547-407E-AAFB-A9697C6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7C1-5DC1-4708-B398-089E967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4D4-8F58-40CE-9B71-48888E2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329-C386-47EB-BEF0-23B0EA4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872-4484-465F-9CBE-37BAABD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12F-4E79-4A5E-A143-6DBC01830E8E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114264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O teu louvor meu Deus vindo lá dos cé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Ecoa em meu vi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Mesmo na escuridão com a tua m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Vens me socorr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entoar teu louv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deixar de proclamar teu amor tão singula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te exaltar meu Senh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Se existe no meu cora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A canção de eterna gratidão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Sempre elevarei meu olhar ao cé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Pois tu és a minha pa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fffff"/>
                </a:solidFill>
                <a:latin typeface="Calibri"/>
              </a:rPr>
              <a:t>Por onde quer que eu for </a:t>
            </a:r>
            <a:r>
              <a:rPr b="1" lang="pt-BR" sz="3900" spc="-1" strike="noStrike">
                <a:solidFill>
                  <a:srgbClr val="ffff00"/>
                </a:solidFill>
                <a:latin typeface="Calibri"/>
              </a:rPr>
              <a:t>( Por onde eu for)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fffff"/>
                </a:solidFill>
                <a:latin typeface="Calibri"/>
              </a:rPr>
              <a:t>Espalharei Senhor  </a:t>
            </a:r>
            <a:r>
              <a:rPr b="1" lang="pt-BR" sz="3900" spc="-1" strike="noStrike">
                <a:solidFill>
                  <a:srgbClr val="ffff00"/>
                </a:solidFill>
                <a:latin typeface="Calibri"/>
              </a:rPr>
              <a:t>( Meu Senhor)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fffff"/>
                </a:solidFill>
                <a:latin typeface="Calibri"/>
              </a:rPr>
              <a:t>O canto que me dá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entoar teu louv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deixar de proclamar teu amor tão singula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te exaltar meu Senh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Se existe no meu cora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A canção de eterna gratidão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 quando a dor chega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Quando sorri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 quando eu vacila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 só a T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, pois me erguerá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m tua m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, pois me escutará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indo a ti em oraç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 lá na glória minha canç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o redor do teu trono em perfeita adoraç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entoar teu louv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deixar de proclamar teu amor tão singula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omo não te exaltar meu Senho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Se existe no meu cora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A canção etern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Calibri"/>
              </a:rPr>
              <a:t>COMO NÃO ENTOAR TEU LOUVO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Se há no meu coraç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 canção eter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Se há no meu coraç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 canção de eterna gratidã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antarei, cantarei, cantare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9:07:07Z</dcterms:created>
  <dc:creator>wlschelemberg</dc:creator>
  <dc:description/>
  <dc:language>en-US</dc:language>
  <cp:lastModifiedBy>wlschelemberg</cp:lastModifiedBy>
  <dcterms:modified xsi:type="dcterms:W3CDTF">2012-09-02T01:53:43Z</dcterms:modified>
  <cp:revision>7</cp:revision>
  <dc:subject/>
  <dc:title>Meu Deus vence batalhas</dc:title>
</cp:coreProperties>
</file>